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CE4-98B5-42DF-A35F-66EC5148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609-C99D-4860-A87C-FA864C9B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168-628A-4E28-8BF7-38104276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B9A-9AB6-4E96-BAA5-D1532883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0A40-8572-4DA4-A9D6-3FE14FAB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612D-E010-4AC8-8204-777F5459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D764-6E77-4DDA-9969-B72A681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22DF-E987-4D42-AA02-0B373EC0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643A-CB02-4165-903E-80D7D620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DC38-535E-4EE1-A300-A11F012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7AF8-3775-4609-B2FE-B2E7DA9B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77C-8AD0-4132-A442-25AA93F4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2817-8900-4AAB-8733-B39B45B6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C2A3-FBA9-4E36-A382-98F8641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FEEB-6D9E-4827-93B2-AFDE0CBA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AD22-FD7B-4196-B739-D3E6993C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7A7C-5363-452D-8230-D5F87090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3B90-F20C-41E1-AA1A-EDCDB22F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FA36-D8F9-4F71-88A1-32B94F05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1C3E-288E-49B6-9663-11EA2F2E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54D1-9EDA-4BEF-AF10-E5688FCB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9DA74-B953-4B56-845D-1D5AF9AE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1BA-0F88-4E31-9F25-FCEBBA01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5DFD-4F83-48A3-8E77-3ED52502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C4B7-0392-4FBE-829D-0BA82C3C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7CAB-875F-4259-A744-604AEFFD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3D42-09EA-4488-AD07-86B054C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B267-7141-4F14-890D-2957D1F0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674E-CAFD-4C67-B26C-D5C43E6B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9850-59EE-4F28-AF71-65D91DDF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CA01-6701-4F2D-8C5D-FB6B700D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9E28-67A7-4B18-BF15-30D705C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A01B-FB8B-4926-98C2-0A883752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AFF-38C5-4983-BB66-DAE84218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691E-ED5D-451B-9CC1-BFE4C94B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0D880-E6F6-4B0B-8191-5E30867F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55D6-3ED8-408C-B439-961AB09D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0444-9AA3-4240-A488-7A2AFE4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84F1-F577-4602-BD8B-E82CCD5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EF73-C13C-40EA-9828-CD2FE575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6035-B11F-49AB-A3FD-C258925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8294A-6BC3-4F2C-A391-1AE9017B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77F6-C6B9-4DB0-9935-74ED4C02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6C1EC-7748-4379-99C9-C9466B98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4FC-4FDA-4D15-A5D2-29F68705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746E-AC0E-4799-9855-EDD153F3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62DC-D156-4B5C-9688-1991ABBF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13235-9980-468C-A6A5-069BBB9F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23B45-F37B-4D2B-8E34-1FCD9715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453C-1A3C-475A-B27D-7E2A6B1D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0D156-3AA2-4E97-B211-5A732009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037CF-24B4-4891-AD51-4A3F3574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7331A-5418-4EEF-A4F9-CC6D703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A114A-E4D7-45D8-B943-4191D15E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4A6B2-EFA4-4199-A295-90FAAB25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C10-A75E-4587-8B3F-373B736E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7D07D-5A33-4E15-ACF8-C8432E52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6DB3-9958-4EAA-BB02-0FD690F2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A599-3C5B-4B36-894B-52BEE404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A74E-ED07-4CEC-8FE0-8F4DD062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B273C-3819-439A-B6D9-FB154C38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D6E43-F376-4069-BCC1-0155D24B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43ED-F39F-43D5-88B7-06DD8159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26EFD-2D66-4907-B38B-E8883D6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C9F81-383E-4363-B72F-4D765D46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DCC41-7EE7-40C6-8E89-9FD79861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89C-DEC7-454D-942E-B837D271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A215-1BFB-4231-8ED6-097220B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07335-9A75-42B0-820E-6B0287A3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F60E2-C62B-4CC4-A267-BD674C76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BF0-9506-43AF-A42A-22D7C1A5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8DC-5182-4D24-B16B-D830E26C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5BEA-6ACE-43B7-A902-2D672F1D808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5DF4-AFCD-4F4C-A67A-7EC1A58BBD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68C2-8DA0-4B71-8D48-0169258EDA2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84E-AEB7-4E11-87FC-F1540ADACD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6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7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F1C0-40EC-42CC-B8CE-56385731831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5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6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6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8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D877-BEA2-4929-9882-49FF66BCFAB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Тема проект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2524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Авторы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/>
  <dc:description/>
  <dc:language>en-US</dc:language>
  <cp:lastModifiedBy>Женя</cp:lastModifiedBy>
  <dcterms:modified xsi:type="dcterms:W3CDTF">2008-05-14T13:14:56Z</dcterms:modified>
  <cp:revision>61</cp:revision>
  <dc:subject/>
  <dc:title>Слайд 1</dc:title>
</cp:coreProperties>
</file>